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A2F-7041-4DD4-9D47-E780679C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273-5E81-48CA-A92E-0DCA016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8A4-5DD8-49F6-BFCC-95438B9B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667-F7DE-42C8-A67D-F1B9497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922F-E392-4306-BEB7-4D57BB80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CFBD-A219-4BED-91E9-4EDCD88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07D0-5AFD-4877-B9B9-492AA8B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98FA5-6F40-4D10-88C7-DE0FCB8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2AA2-4EEA-41CF-B658-8FE2AB34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0E12D-7171-4040-98C5-E130755B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FEA42-D2D7-4BC7-A206-56926EC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390-1C69-4DA7-A46E-9B4A50B0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4F521-344E-4C76-9ECA-541D88F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B82EA-53D0-4997-9BAA-2CDE985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37CC-8D65-4637-BEAB-766A788A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82E4-7C0F-4C27-8F42-12E84AF9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53C4-383F-4CF0-AAF7-5BE95090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CCC-AC1C-436B-BAD5-23D0DAD2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621-FE2D-4B1A-9B8B-3CF692F6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5BC-C2DD-4B5D-8F49-0A40EEE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117-E51B-435C-B7AF-8F03F86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87E-029B-4DF1-B06C-A40F5AA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7D5-5A00-417E-850C-FB7A706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E5D-6EBC-4A82-AEB8-91E660B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01F-3D78-431C-B415-48576DBB17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3C83-A057-4837-AA68-78904539C5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742-BB1A-476C-B974-E0841A7E3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DABE-C1E9-437D-81D4-F60276E3FB7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1BC-9FC1-4DB1-8FB9-33D29BE2DF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Verdana"/>
              </a:rPr>
              <a:t>JERICO WP10: JRA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Verdana"/>
              </a:rPr>
              <a:t>Emerging technologies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Verdana"/>
              </a:rPr>
              <a:t>(Improve system component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55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539640" y="465300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Verdana"/>
              </a:rPr>
              <a:t>Glenn Nolan, Antoine Gremare</a:t>
            </a:r>
            <a:endParaRPr b="0" lang="en-US" sz="24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Deliverables: WP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424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Milest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gree sub-task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tart to plan field activity and workshops- jointly with other WP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MHI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38836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3708000" y="4149720"/>
            <a:ext cx="3527640" cy="122400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435280" y="4076640"/>
            <a:ext cx="1873080" cy="115272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5084640"/>
            <a:ext cx="1081080" cy="720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ccff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Partners involv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15644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720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P10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examine the extent to which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existing technologies can be improved and/or adapted to the benefit of coastal operational oceanograph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to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ocument and test emerging technologi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will underpin future operational oceanographic systems in Europe’s coastal seas. The work package is sub-divided into tasks includ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New tools and strategies for monitoring key biological compartments and proce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Development of new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hysico-chemical senso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Use of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merging profiling technolog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coastal se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Increased use of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hips of opportunit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making coastal oceanographic measurem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Best practices in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oastal observatory implem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SK 10.1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MENTS OF NEW TOOLS AND STRATEGIES FOR THE MONITORING OF KEY BIOLOGICAL COMPARTMENTS AND PROCESS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1)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 situ video imaging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of the water sediment interface using ROV or other mobile carriers to infer the abundance of supra-benth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2)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 situ sediment profile image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to infer the ecological quality status of benthic habitats using either existing or newly developed indic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3)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 situ recorded videos by fixed camera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to assess the activity and growth of benthic organism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4) images derived from laboratory equipments designed to process and assess both phytoplankton (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Flowcam, FlowCytoBot) and zooplankton (Zoosca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NS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NIOZ, NIV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Demonstration surv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SK 10.2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S OF PHYSICO-CHEMICAL SENSORS AND IMPLEMENTATION ON NEW PLAT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ask 10.2.1. Contamin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ask 10.2.2. Algal pig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ask 10.2.3. Carbonate system (adapt and deplo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I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ERC, SYKE, SMHI, HZ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SK 10.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ERGING TECHNOLOGY -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ROFILING TECHNOLO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TER-COMPARISON WITH MATURE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) MAMBO buoy, PAGODE profiling floats and ship-based CTD systems in the Northern Adriatic Sea,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) the EOL buoy and ship-base measurements in the Ligurian Se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3) profiling system in the Bay of Biscay (ocean exposed conditions) compare with those of two FerryBox l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FREMER, CSIC, MI, INSU, NIVA, NER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Two case studies including glider and XBTs from Fer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SK 10.4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IPS OF OPPORTUNITY, NEXT GENERATION FISHING VESSELS PROB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REM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NR, CEFAS, M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Short workshop (field activity WP7?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SK 10.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RRYBOX DATA QUALITY CONTROL ALGORITHM (M6-M4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ER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NIVA, HZ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eview (no field activ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5:57:18Z</dcterms:created>
  <dc:creator>p callanan</dc:creator>
  <dc:description/>
  <dc:language>en-US</dc:language>
  <cp:lastModifiedBy>gnolan</cp:lastModifiedBy>
  <dcterms:modified xsi:type="dcterms:W3CDTF">2011-03-29T11:35:27Z</dcterms:modified>
  <cp:revision>293</cp:revision>
  <dc:subject/>
  <dc:title>No Slide Title</dc:title>
</cp:coreProperties>
</file>