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866DB-7E41-4C95-A615-7780C6F7B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DBAD7-2D48-4EA8-9FE6-A6A4D6B01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E07B9-D10F-4F4C-9A97-A8D02B2EC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46BC2-4FAC-41F7-A37C-70C1E2976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0F23-70E7-4854-A2EF-19CB2A4E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2D280-65BD-450D-AE16-CBC04CD5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A9AEE-6BFC-421F-9A25-8302CA1D5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64BD2-1EAA-47FE-85E1-4D4F9485D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6331-3E34-4B42-90AF-43E4E1DA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3A10-81A2-4E75-A93B-A08E70A24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18B17-C192-474A-969B-6F5FE8CD6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15DC-83D7-43F2-9964-65512C425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D375-5606-4155-818D-DC883293DB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MarinERA Background.jpg"/>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5"/>
          <p:cNvSpPr/>
          <p:nvPr/>
        </p:nvSpPr>
        <p:spPr>
          <a:xfrm>
            <a:off x="539640" y="4869000"/>
            <a:ext cx="8136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Rectangle 3"/>
          <p:cNvSpPr/>
          <p:nvPr/>
        </p:nvSpPr>
        <p:spPr>
          <a:xfrm>
            <a:off x="395280" y="1268280"/>
            <a:ext cx="8497800" cy="506376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This task manages the Trans National Access to selected installations of the JERICO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        </a:t>
            </a:r>
            <a:r>
              <a:rPr b="0" lang="en-GB" sz="2000" spc="-1" strike="noStrike">
                <a:solidFill>
                  <a:srgbClr val="000099"/>
                </a:solidFill>
                <a:latin typeface="Arial"/>
              </a:rPr>
              <a:t>SubTask 1.6.1: Preparation of the call – peer review</a:t>
            </a:r>
            <a:r>
              <a:rPr b="0" lang="it-IT"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Setting the “Selection Pan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Drafting the c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Drafting the guidelines for evalu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Meetings of the Pan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        </a:t>
            </a:r>
            <a:r>
              <a:rPr b="0" lang="en-GB" sz="2000" spc="-1" strike="noStrike">
                <a:solidFill>
                  <a:srgbClr val="000099"/>
                </a:solidFill>
                <a:latin typeface="Arial"/>
              </a:rPr>
              <a:t>SubTask</a:t>
            </a:r>
            <a:r>
              <a:rPr b="0" lang="en-GB" sz="2000" spc="-1" strike="noStrike">
                <a:solidFill>
                  <a:srgbClr val="000000"/>
                </a:solidFill>
                <a:latin typeface="Arial"/>
              </a:rPr>
              <a:t> </a:t>
            </a:r>
            <a:r>
              <a:rPr b="0" lang="en-GB" sz="2000" spc="-1" strike="noStrike">
                <a:solidFill>
                  <a:srgbClr val="000099"/>
                </a:solidFill>
                <a:latin typeface="Arial"/>
              </a:rPr>
              <a:t>1.6.2 : Information and reporting activities</a:t>
            </a:r>
            <a:r>
              <a:rPr b="0" lang="it-I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Drafting the specifications of the web site (call se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managing its construction and implement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Managing the calls (call opening, proposals reception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transmission to the targeted providers for pre-scree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technical revie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               </a:t>
            </a:r>
            <a:r>
              <a:rPr b="0" lang="fr-FR" sz="2000" spc="-1" strike="noStrike">
                <a:solidFill>
                  <a:srgbClr val="000099"/>
                </a:solidFill>
                <a:latin typeface="Arial"/>
              </a:rPr>
              <a:t>- Access reporting and information. </a:t>
            </a:r>
            <a:endParaRPr b="0" lang="en-US" sz="2000" spc="-1" strike="noStrike">
              <a:solidFill>
                <a:srgbClr val="000000"/>
              </a:solidFill>
              <a:latin typeface="Arial"/>
            </a:endParaRPr>
          </a:p>
        </p:txBody>
      </p:sp>
      <p:sp>
        <p:nvSpPr>
          <p:cNvPr id="44" name="Rectangle 3"/>
          <p:cNvSpPr/>
          <p:nvPr/>
        </p:nvSpPr>
        <p:spPr>
          <a:xfrm>
            <a:off x="395280" y="260280"/>
            <a:ext cx="8424720" cy="85572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JERICO WP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99"/>
                </a:solidFill>
                <a:latin typeface="Arial"/>
              </a:rPr>
              <a:t>T1.6 : </a:t>
            </a:r>
            <a:r>
              <a:rPr b="1" lang="en-GB" sz="2200" spc="-1" strike="noStrike">
                <a:solidFill>
                  <a:srgbClr val="000099"/>
                </a:solidFill>
                <a:latin typeface="Arial"/>
              </a:rPr>
              <a:t> User modality Access for the Trans National Activities</a:t>
            </a:r>
            <a:r>
              <a:rPr b="1" lang="it-IT"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3"/>
          <p:cNvSpPr/>
          <p:nvPr/>
        </p:nvSpPr>
        <p:spPr>
          <a:xfrm>
            <a:off x="395280" y="189000"/>
            <a:ext cx="8424720" cy="88632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JERICO WP1 – T1.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admap and planning for WP8 – 1st year</a:t>
            </a:r>
            <a:r>
              <a:rPr b="1" lang="it-IT"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46" name=""/>
          <p:cNvGraphicFramePr/>
          <p:nvPr/>
        </p:nvGraphicFramePr>
        <p:xfrm>
          <a:off x="324000" y="1268280"/>
          <a:ext cx="8569080" cy="5127840"/>
        </p:xfrm>
        <a:graphic>
          <a:graphicData uri="http://schemas.openxmlformats.org/drawingml/2006/table">
            <a:tbl>
              <a:tblPr/>
              <a:tblGrid>
                <a:gridCol w="2376360"/>
                <a:gridCol w="6192720"/>
              </a:tblGrid>
              <a:tr h="630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alibri"/>
                        </a:rPr>
                        <a:t>Mon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alibri"/>
                        </a:rPr>
                        <a:t>A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1] – May 201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Setting the Selection Panel (SP)</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6] – Oct 201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Drafting the TNA call and the guidelines for evalu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7] – Nov 201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1st SP meeting: validation of call and guidelines validation, and information to post on the website, schedule of call openings, deadlines and access calend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8] – Dec 201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 </a:t>
                      </a:r>
                      <a:r>
                        <a:rPr b="0" lang="it-IT" sz="2000" spc="-1" strike="noStrike">
                          <a:solidFill>
                            <a:srgbClr val="000099"/>
                          </a:solidFill>
                          <a:latin typeface="Calibri"/>
                        </a:rPr>
                        <a:t>TNA webpages ready to publish call and related material</a:t>
                      </a:r>
                      <a:endParaRPr b="0" lang="en-US" sz="2000" spc="-1" strike="noStrike">
                        <a:solidFill>
                          <a:srgbClr val="000000"/>
                        </a:solidFill>
                        <a:latin typeface="Arial"/>
                      </a:endParaRPr>
                    </a:p>
                    <a:p>
                      <a:pPr>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 </a:t>
                      </a:r>
                      <a:r>
                        <a:rPr b="1" lang="it-IT" sz="2000" spc="-1" strike="noStrike">
                          <a:solidFill>
                            <a:srgbClr val="000099"/>
                          </a:solidFill>
                          <a:latin typeface="Calibri"/>
                        </a:rPr>
                        <a:t>Call opening: 1st call for TNA proposa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10] – Feb 201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Technical pre-screening by the targeted providers of submitted project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9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11] – Mar 201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2nd SP meeting: selection of the projects, publication of the assessment report and the calendar of planned acce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9"/>
                          </a:solidFill>
                          <a:latin typeface="Calibri"/>
                        </a:rPr>
                        <a:t>[11] – Mar 201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9"/>
                          </a:solidFill>
                          <a:latin typeface="Calibri"/>
                        </a:rPr>
                        <a:t>MS6 – Infrastructure available for users</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324000" y="1844640"/>
          <a:ext cx="8569080" cy="3349800"/>
        </p:xfrm>
        <a:graphic>
          <a:graphicData uri="http://schemas.openxmlformats.org/drawingml/2006/table">
            <a:tbl>
              <a:tblPr/>
              <a:tblGrid>
                <a:gridCol w="2555640"/>
                <a:gridCol w="6013440"/>
              </a:tblGrid>
              <a:tr h="7182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alibri"/>
                        </a:rPr>
                        <a:t>Mon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alibri"/>
                        </a:rPr>
                        <a:t>A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13 to 23] </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May 2012 – Mar 201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Trans National Access to JERICO network: user groups and providers implement the projects selected after the 1st cal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20] – Dec 201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alibri"/>
                        </a:rPr>
                        <a:t>Call opening: 2nd call for TNA proposa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22] – Feb 2013</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Technical pre-screening by the targeted providers of submitted project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24] – Apr 2013</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alibri"/>
                        </a:rPr>
                        <a:t>First report of the access activ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Rectangle 3"/>
          <p:cNvSpPr/>
          <p:nvPr/>
        </p:nvSpPr>
        <p:spPr>
          <a:xfrm>
            <a:off x="395280" y="549360"/>
            <a:ext cx="8424720" cy="88632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JERICO WP1 – T1.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admap and planning for WP8 – 2nd year</a:t>
            </a:r>
            <a:r>
              <a:rPr b="1" lang="it-IT"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3"/>
          <p:cNvSpPr/>
          <p:nvPr/>
        </p:nvSpPr>
        <p:spPr>
          <a:xfrm>
            <a:off x="395280" y="549360"/>
            <a:ext cx="8424720" cy="88632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JERICO WP1 – T1.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admap and planning for WP8 – 3nd year</a:t>
            </a:r>
            <a:r>
              <a:rPr b="1" lang="it-IT"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50" name=""/>
          <p:cNvGraphicFramePr/>
          <p:nvPr/>
        </p:nvGraphicFramePr>
        <p:xfrm>
          <a:off x="324000" y="1773360"/>
          <a:ext cx="8569080" cy="4484520"/>
        </p:xfrm>
        <a:graphic>
          <a:graphicData uri="http://schemas.openxmlformats.org/drawingml/2006/table">
            <a:tbl>
              <a:tblPr/>
              <a:tblGrid>
                <a:gridCol w="2592360"/>
                <a:gridCol w="5976720"/>
              </a:tblGrid>
              <a:tr h="630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alibri"/>
                        </a:rPr>
                        <a:t>Mont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alibri"/>
                        </a:rPr>
                        <a:t>A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26] – June 2013</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3rd SP meeting: selection of the projects from the 2nd call, publication of the assessment report and the calendar of access planned for the last period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29 to 39] </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Sept 2013 – Jul 201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alibri"/>
                        </a:rPr>
                        <a:t>Trans National Access to JERICO network: user groups and providers implement the projects selected after the 2nd cal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99"/>
                          </a:solidFill>
                          <a:latin typeface="Calibri"/>
                        </a:rPr>
                        <a:t>[42] – Oct 2014</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alibri"/>
                        </a:rPr>
                        <a:t>Second report of the access activ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72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9"/>
                          </a:solidFill>
                          <a:latin typeface="Calibri"/>
                        </a:rPr>
                        <a:t>[47] – Mar 2015</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99"/>
                          </a:solidFill>
                          <a:latin typeface="Calibri"/>
                        </a:rPr>
                        <a:t>MS13 – User reports of TNA activities</a:t>
                      </a:r>
                      <a:endParaRPr b="0" lang="en-US" sz="2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libri"/>
                          <a:ea typeface="Times New Roman"/>
                        </a:rPr>
                        <a:t>plus TNA recommendations for a strategic implementation plan of the infrastructure to cover all the European coast line and wat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702160" y="476280"/>
            <a:ext cx="353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99"/>
                </a:solidFill>
                <a:latin typeface="Arial"/>
              </a:rPr>
              <a:t>T1.6 : Third year</a:t>
            </a:r>
            <a:endParaRPr b="0" lang="en-US" sz="3600" spc="-1" strike="noStrike">
              <a:solidFill>
                <a:srgbClr val="000000"/>
              </a:solidFill>
              <a:latin typeface="Arial"/>
            </a:endParaRPr>
          </a:p>
        </p:txBody>
      </p:sp>
      <p:graphicFrame>
        <p:nvGraphicFramePr>
          <p:cNvPr id="52" name=""/>
          <p:cNvGraphicFramePr/>
          <p:nvPr/>
        </p:nvGraphicFramePr>
        <p:xfrm>
          <a:off x="254160" y="1562040"/>
          <a:ext cx="8781840" cy="3854520"/>
        </p:xfrm>
        <a:graphic>
          <a:graphicData uri="http://schemas.openxmlformats.org/drawingml/2006/table">
            <a:tbl>
              <a:tblPr/>
              <a:tblGrid>
                <a:gridCol w="2354040"/>
                <a:gridCol w="1967040"/>
                <a:gridCol w="3747960"/>
                <a:gridCol w="712800"/>
              </a:tblGrid>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ea typeface="Times New Roman"/>
                        </a:rPr>
                        <a:t>Sub-Task</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ea typeface="Times New Roman"/>
                        </a:rPr>
                        <a:t>Activ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99"/>
                          </a:solidFill>
                          <a:latin typeface="Arial"/>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ea typeface="Times New Roman"/>
                        </a:rPr>
                        <a:t>Delivery d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8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1.6.1 Preparation of the call – peer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3</a:t>
                      </a:r>
                      <a:r>
                        <a:rPr b="0" lang="en-GB" sz="1000" spc="-1" strike="noStrike" baseline="30000">
                          <a:solidFill>
                            <a:srgbClr val="000099"/>
                          </a:solidFill>
                          <a:latin typeface="Arial"/>
                          <a:ea typeface="Times New Roman"/>
                        </a:rPr>
                        <a:t>nd</a:t>
                      </a:r>
                      <a:r>
                        <a:rPr b="0" lang="en-GB" sz="1000" spc="-1" strike="noStrike">
                          <a:solidFill>
                            <a:srgbClr val="000099"/>
                          </a:solidFill>
                          <a:latin typeface="Arial"/>
                          <a:ea typeface="Times New Roman"/>
                        </a:rPr>
                        <a:t> Meeting of the “Selection Pane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Selection of the projects submitted to the second open call. Publication on the web page of the assessment report and the calendar of user groups to be hosted in the JERICO faciliti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2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1.6.2 Information and reporting activiti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Trans National Access to the JERICO network.</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User groups and the providers implement the selected projects and related access to the concerned installations (establishment of a protocol between the provider and the user to state all the access details when necessa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For each facility allocated a reporting mechanism will be introduced at the end of the testing period quantifying the scientific and technological outcomes being achiev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29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t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3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vMerge="1">
                  <a:txBody>
                    <a:bodyPr lIns="90000" rIns="90000" tIns="45000" bIns="45000" anchor="t">
                      <a:noAutofit/>
                    </a:bodyPr>
                    <a:p>
                      <a:endParaRPr b="0" lang="en-US" sz="3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ea typeface="Times New Roman"/>
                        </a:rPr>
                        <a:t>D1.10 - Second report of the access activit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Release on the JERICO web site of the second annual report of the access activity. It will describe the selected open projects under the TNA programme and their scientific and technological outcom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ea typeface="Times New Roman"/>
                        </a:rPr>
                        <a:t>4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vMerge="1">
                  <a:txBody>
                    <a:bodyPr lIns="90000" rIns="90000" tIns="45000" bIns="45000" anchor="t">
                      <a:noAutofit/>
                    </a:bodyPr>
                    <a:p>
                      <a:endParaRPr b="0" lang="en-US" sz="3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ea typeface="Times New Roman"/>
                        </a:rPr>
                        <a:t>MS13 – User reports of activit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pl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Contribution to D1.11 – Final report including a roadmap for the next deca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ea typeface="Times New Roman"/>
                        </a:rPr>
                        <a:t>User reports of TNA activities and TNA recommendations will be produced for a strategic implementation plan of the infrastructure to cover all the European coast line and wat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ea typeface="Times New Roman"/>
                        </a:rPr>
                        <a:t>4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4:22:40Z</dcterms:created>
  <dc:creator>jlegrand</dc:creator>
  <dc:description/>
  <dc:language>en-US</dc:language>
  <cp:lastModifiedBy>Stefania</cp:lastModifiedBy>
  <dcterms:modified xsi:type="dcterms:W3CDTF">2011-03-27T08:00:09Z</dcterms:modified>
  <cp:revision>208</cp:revision>
  <dc:subject/>
  <dc:title>Diapositive 1</dc:title>
</cp:coreProperties>
</file>