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C2A-EDA1-4F18-80D0-705E703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40413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178-01BB-4873-822B-31067344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492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594-6053-4569-8475-E72489A8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692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84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692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84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F73D-1793-4D93-B611-8B8EEA86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18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C8B-7376-4525-868D-DD5A81A3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492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40413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492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692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840" y="129492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692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840" y="404136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B10-AC3F-493B-BD0B-C0AC267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C14-9568-402D-A640-B0E6070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3C6-785F-4943-B063-E8892C4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18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647-2E90-4ABF-AC6B-92CF3A8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F71-95EB-403B-A601-D4DD2A50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4920" y="404136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7AA-81F3-499F-8E35-85BF6C6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404136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AAC-EA32-442F-89B7-F2FD12A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116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19224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62904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62904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629040"/>
            <a:ext cx="190476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EC4-BAAB-4729-AD76-FDA700BB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0" r="23686" b="0"/>
          <a:stretch/>
        </p:blipFill>
        <p:spPr>
          <a:xfrm>
            <a:off x="1143000" y="6458040"/>
            <a:ext cx="182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61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0" t="0" r="23686" b="0"/>
          <a:stretch/>
        </p:blipFill>
        <p:spPr>
          <a:xfrm>
            <a:off x="6934320" y="76320"/>
            <a:ext cx="220968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tp://ftp.cordis.europa.eu/pub/fp7/docs/project_reporting_en.pd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371600" y="1600200"/>
            <a:ext cx="6553080" cy="4266720"/>
            <a:chOff x="1371600" y="1600200"/>
            <a:chExt cx="6553080" cy="4266720"/>
          </a:xfrm>
        </p:grpSpPr>
        <p:grpSp>
          <p:nvGrpSpPr>
            <p:cNvPr id="83" name=""/>
            <p:cNvGrpSpPr/>
            <p:nvPr/>
          </p:nvGrpSpPr>
          <p:grpSpPr>
            <a:xfrm>
              <a:off x="1371600" y="2514240"/>
              <a:ext cx="6553080" cy="3352680"/>
              <a:chOff x="1371600" y="2514240"/>
              <a:chExt cx="6553080" cy="3352680"/>
            </a:xfrm>
          </p:grpSpPr>
          <p:sp>
            <p:nvSpPr>
              <p:cNvPr id="84" name=""/>
              <p:cNvSpPr/>
              <p:nvPr/>
            </p:nvSpPr>
            <p:spPr>
              <a:xfrm>
                <a:off x="3733920" y="2514240"/>
                <a:ext cx="1981080" cy="6314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UROPE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MIS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33920" y="3961800"/>
                <a:ext cx="2057400" cy="609840"/>
              </a:xfrm>
              <a:prstGeom prst="flowChart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ORDIN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71600" y="5333400"/>
                <a:ext cx="1600200" cy="533520"/>
              </a:xfrm>
              <a:prstGeom prst="flowChart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rtne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86200" y="5333400"/>
                <a:ext cx="1600200" cy="533520"/>
              </a:xfrm>
              <a:prstGeom prst="flowChart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rtne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24480" y="5333400"/>
                <a:ext cx="1600200" cy="533520"/>
              </a:xfrm>
              <a:prstGeom prst="flowChartProcess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rtner 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95680" y="3276000"/>
                <a:ext cx="533520" cy="609840"/>
              </a:xfrm>
              <a:prstGeom prst="downArrow">
                <a:avLst>
                  <a:gd name="adj1" fmla="val 50000"/>
                  <a:gd name="adj2" fmla="val 28576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72000" y="4647600"/>
                <a:ext cx="533520" cy="609840"/>
              </a:xfrm>
              <a:prstGeom prst="downArrow">
                <a:avLst>
                  <a:gd name="adj1" fmla="val 50000"/>
                  <a:gd name="adj2" fmla="val 28576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591400">
                <a:off x="3047760" y="4647600"/>
                <a:ext cx="533160" cy="609840"/>
              </a:xfrm>
              <a:prstGeom prst="downArrow">
                <a:avLst>
                  <a:gd name="adj1" fmla="val 50000"/>
                  <a:gd name="adj2" fmla="val 28596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9375800">
                <a:off x="5866920" y="4647600"/>
                <a:ext cx="533520" cy="609840"/>
              </a:xfrm>
              <a:prstGeom prst="downArrow">
                <a:avLst>
                  <a:gd name="adj1" fmla="val 50000"/>
                  <a:gd name="adj2" fmla="val 28576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044320" y="160020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66cc"/>
                  </a:solidFill>
                  <a:latin typeface="NewsGoth BT"/>
                </a:rPr>
                <a:t>Project fu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067040" cy="8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83A-427F-465F-8889-05E3A5E3A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1828800"/>
            <a:ext cx="70516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ne pre-financing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0% of the average EC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 period  transferred to the Coordinator 45 days af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y into force of the 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inator distributes prefinanc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once minimum number of partners have sig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only to those who have signed and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% of EC total grant is transferred to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uarantee Fun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ept aside up to the end of the projec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4400" y="1295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cc"/>
                </a:solidFill>
                <a:latin typeface="Arial"/>
              </a:rPr>
              <a:t>Pre-financi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067040" cy="8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705-5777-403C-AC2A-72C0372C2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3720" y="1523880"/>
            <a:ext cx="23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cc"/>
                </a:solidFill>
                <a:latin typeface="Arial"/>
              </a:rPr>
              <a:t>Further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7320" y="2133720"/>
            <a:ext cx="600948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im pay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ferred by EC after approval of submitted perio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ports (max. 105 days from the end of the period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ated on the basis of declared costs and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imboursemen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0% of EC total grant withheld until the approva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nal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ter approval of final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erence between total EC contribution and a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ready p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067040" cy="8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7B1-31D1-4C47-BAE3-2600135F07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72200" y="2362320"/>
            <a:ext cx="1981080" cy="6314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oject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 Bruss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886200"/>
            <a:ext cx="2057400" cy="6094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5257800"/>
            <a:ext cx="1600200" cy="533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5257800"/>
            <a:ext cx="1600200" cy="533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5257800"/>
            <a:ext cx="1600200" cy="5335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26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cc"/>
                </a:solidFill>
                <a:latin typeface="NewsGoth BT"/>
              </a:rPr>
              <a:t>Project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114800"/>
            <a:ext cx="1447920" cy="9144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276720"/>
            <a:ext cx="1600200" cy="1027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411360"/>
            <a:ext cx="974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NewsGoth BT"/>
              </a:rPr>
              <a:t>Tem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NewsGoth BT"/>
              </a:rPr>
              <a:t>&amp; Form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NewsGoth BT"/>
              </a:rPr>
              <a:t>Fill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752480" y="4267080"/>
            <a:ext cx="1676520" cy="9144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49400 h 914400"/>
              <a:gd name="textAreaBottom" fmla="*/ 70848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44" stAng="-5400000" swAng="-5400000"/>
                <a:lnTo>
                  <a:pt x="0" y="13206"/>
                </a:lnTo>
                <a:arcTo wR="21600" hR="7044" stAng="10800000" swAng="-2561272"/>
                <a:lnTo>
                  <a:pt x="14400" y="21197"/>
                </a:lnTo>
                <a:lnTo>
                  <a:pt x="21600" y="17169"/>
                </a:lnTo>
                <a:lnTo>
                  <a:pt x="14400" y="12335"/>
                </a:lnTo>
                <a:lnTo>
                  <a:pt x="14400" y="13685"/>
                </a:lnTo>
                <a:arcTo wR="21600" hR="7044" stAng="8238728" swAng="2020495"/>
                <a:lnTo>
                  <a:pt x="2176" y="10125"/>
                </a:lnTo>
                <a:arcTo wR="21600" hR="7044" stAng="-10259223" swAng="4859223"/>
                <a:close/>
              </a:path>
              <a:path fill="darkenLess" w="21600" h="21600">
                <a:moveTo>
                  <a:pt x="21600" y="0"/>
                </a:moveTo>
                <a:arcTo wR="21600" hR="7044" stAng="-5400000" swAng="-5400000"/>
                <a:lnTo>
                  <a:pt x="0" y="7044"/>
                </a:lnTo>
                <a:arcTo wR="21600" hR="7044" stAng="10800000" swAng="-540777"/>
                <a:lnTo>
                  <a:pt x="2176" y="10125"/>
                </a:lnTo>
                <a:arcTo wR="21600" hR="7044" stAng="-10259223" swAng="4859223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467480" y="3657600"/>
            <a:ext cx="1600200" cy="838080"/>
            <a:chOff x="7467480" y="3657600"/>
            <a:chExt cx="1600200" cy="838080"/>
          </a:xfrm>
        </p:grpSpPr>
        <p:sp>
          <p:nvSpPr>
            <p:cNvPr id="115" name=""/>
            <p:cNvSpPr/>
            <p:nvPr/>
          </p:nvSpPr>
          <p:spPr>
            <a:xfrm>
              <a:off x="7467480" y="3657600"/>
              <a:ext cx="1600200" cy="838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3960" y="3767040"/>
              <a:ext cx="9748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NewsGoth BT"/>
                </a:rPr>
                <a:t>Templ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NewsGoth BT"/>
                </a:rPr>
                <a:t>&amp; Form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19963200">
            <a:off x="4952880" y="30477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362320"/>
            <a:ext cx="1752480" cy="7617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7720" y="2438280"/>
            <a:ext cx="1680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NewsGoth BT"/>
              </a:rPr>
              <a:t>Revised &amp; 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NewsGoth BT"/>
              </a:rPr>
              <a:t>doc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18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4A0-BC1A-4FB8-8601-616369EB98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8120" y="1295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cc"/>
                </a:solidFill>
                <a:latin typeface="Arial"/>
              </a:rPr>
              <a:t>Reporting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5240" y="1828800"/>
            <a:ext cx="750204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vity/financial reporting is a main contractual duty for all FP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ports includ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iodic reports delivered to the EC 60 days after the 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each reporting period ( 12 or 18 month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final report at the end of the project, and on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hort progress reports within the main reporting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uidelines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ftp://ftp.cordis.europa.eu/pub/fp7/docs/project_reporting_en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 on financial stateme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equired to certify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urred in the frame of the project each time if the added-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 contribution &gt;375 000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3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CC9-9CE8-4825-AA83-6F5CB0E4E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4200" y="129528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cc"/>
                </a:solidFill>
                <a:latin typeface="Arial"/>
              </a:rPr>
              <a:t>2. Reporting :  who does wh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828800"/>
          <a:ext cx="7696080" cy="4468680"/>
        </p:xfrm>
        <a:graphic>
          <a:graphicData uri="http://schemas.openxmlformats.org/drawingml/2006/table">
            <a:tbl>
              <a:tblPr/>
              <a:tblGrid>
                <a:gridCol w="3772080"/>
                <a:gridCol w="1885680"/>
                <a:gridCol w="20383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ion project coord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ublishable sum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 + WPlea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ific work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roject objectives of the peri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 + WP lea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ork progress, during period (W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or + WP leaders +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WPs deliverables &amp; milestones 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or + WP leaders + partn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&amp; financial 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Projec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or + WP lea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xplanation of the use of the res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ach 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Financial statements (Forms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y financial report tab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ach 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internet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 or FORCE/E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Certificates on Financial stat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of certific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ach 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ord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108-B9B1-4200-AA8F-2392AAAED7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0" y="-955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1981080"/>
            <a:ext cx="7772400" cy="3276720"/>
            <a:chOff x="990720" y="1981080"/>
            <a:chExt cx="7772400" cy="3276720"/>
          </a:xfrm>
        </p:grpSpPr>
        <p:grpSp>
          <p:nvGrpSpPr>
            <p:cNvPr id="132" name=""/>
            <p:cNvGrpSpPr/>
            <p:nvPr/>
          </p:nvGrpSpPr>
          <p:grpSpPr>
            <a:xfrm>
              <a:off x="993240" y="1982520"/>
              <a:ext cx="7766640" cy="3273120"/>
              <a:chOff x="993240" y="1982520"/>
              <a:chExt cx="7766640" cy="327312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993240" y="1982520"/>
                <a:ext cx="7766640" cy="441360"/>
                <a:chOff x="993240" y="1982520"/>
                <a:chExt cx="7766640" cy="4413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51920" y="1982520"/>
                  <a:ext cx="7648920" cy="44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ble 3.1 Personnel, subcontracting and other major   cost items for Beneficiary 1 for the perio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93240" y="1982520"/>
                  <a:ext cx="7766640" cy="44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993240" y="2423880"/>
                <a:ext cx="1108800" cy="409320"/>
                <a:chOff x="993240" y="2423880"/>
                <a:chExt cx="1108800" cy="4093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051920" y="2423880"/>
                  <a:ext cx="9907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Work Pack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93240" y="2423880"/>
                  <a:ext cx="110880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102040" y="2423880"/>
                <a:ext cx="1787760" cy="409320"/>
                <a:chOff x="2102040" y="2423880"/>
                <a:chExt cx="1787760" cy="409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160360" y="2423880"/>
                  <a:ext cx="167004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Item descrip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102040" y="2423880"/>
                  <a:ext cx="178776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890160" y="2423880"/>
                <a:ext cx="948600" cy="409320"/>
                <a:chOff x="3890160" y="2423880"/>
                <a:chExt cx="948600" cy="409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948840" y="2423880"/>
                  <a:ext cx="8305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Amount in € with 2 decimal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890160" y="2423880"/>
                  <a:ext cx="94860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838760" y="2423880"/>
                <a:ext cx="3920760" cy="409320"/>
                <a:chOff x="4838760" y="2423880"/>
                <a:chExt cx="3920760" cy="4093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97440" y="2423880"/>
                  <a:ext cx="380304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Explanations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38760" y="2423880"/>
                  <a:ext cx="392076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993240" y="2833200"/>
                <a:ext cx="1108800" cy="409320"/>
                <a:chOff x="993240" y="2833200"/>
                <a:chExt cx="1108800" cy="409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51920" y="2833200"/>
                  <a:ext cx="9907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Ex: 2,5, 8, 11, 1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3240" y="2833200"/>
                  <a:ext cx="110880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102040" y="2833200"/>
                <a:ext cx="1787760" cy="409320"/>
                <a:chOff x="2102040" y="2833200"/>
                <a:chExt cx="1787760" cy="4093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160360" y="2833200"/>
                  <a:ext cx="167004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Personnel direct cos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102040" y="2833200"/>
                  <a:ext cx="178776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890160" y="2833200"/>
                <a:ext cx="948600" cy="409320"/>
                <a:chOff x="3890160" y="2833200"/>
                <a:chExt cx="948600" cy="4093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948840" y="2833200"/>
                  <a:ext cx="8305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235000.00 €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90160" y="2833200"/>
                  <a:ext cx="94860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838760" y="2833200"/>
                <a:ext cx="3920760" cy="409320"/>
                <a:chOff x="4838760" y="2833200"/>
                <a:chExt cx="3920760" cy="409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897440" y="2833200"/>
                  <a:ext cx="380304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laries of 2 postdoctoral students and one lab technician for 18 months each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38760" y="2833200"/>
                  <a:ext cx="3920760" cy="40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993240" y="3242520"/>
                <a:ext cx="1108800" cy="327240"/>
                <a:chOff x="993240" y="3242520"/>
                <a:chExt cx="1108800" cy="327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51920" y="3242520"/>
                  <a:ext cx="9907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3240" y="3242520"/>
                  <a:ext cx="11088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102040" y="3242520"/>
                <a:ext cx="1787760" cy="327240"/>
                <a:chOff x="2102040" y="3242520"/>
                <a:chExt cx="1787760" cy="327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160360" y="3242520"/>
                  <a:ext cx="1670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Subcontract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02040" y="3242520"/>
                  <a:ext cx="1787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890160" y="3242520"/>
                <a:ext cx="948600" cy="327240"/>
                <a:chOff x="3890160" y="3242520"/>
                <a:chExt cx="948600" cy="327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948840" y="3242520"/>
                  <a:ext cx="8305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11000.02 €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90160" y="3242520"/>
                  <a:ext cx="9486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838760" y="3242520"/>
                <a:ext cx="3920760" cy="327240"/>
                <a:chOff x="4838760" y="3242520"/>
                <a:chExt cx="3920760" cy="327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897440" y="3242520"/>
                  <a:ext cx="3803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Maintenance of the web site and printing of brochure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838760" y="3242520"/>
                  <a:ext cx="3920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93240" y="3570120"/>
                <a:ext cx="1108800" cy="327240"/>
                <a:chOff x="993240" y="3570120"/>
                <a:chExt cx="1108800" cy="327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51920" y="3570120"/>
                  <a:ext cx="9907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8, 1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3240" y="3570120"/>
                  <a:ext cx="11088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102040" y="3570120"/>
                <a:ext cx="1787760" cy="327240"/>
                <a:chOff x="2102040" y="3570120"/>
                <a:chExt cx="1787760" cy="3272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160360" y="3570120"/>
                  <a:ext cx="1670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Major cost item 'X'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02040" y="3570120"/>
                  <a:ext cx="1787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890160" y="3570120"/>
                <a:ext cx="948600" cy="327240"/>
                <a:chOff x="3890160" y="3570120"/>
                <a:chExt cx="948600" cy="3272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948840" y="3570120"/>
                  <a:ext cx="8305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75000.23 €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890160" y="3570120"/>
                  <a:ext cx="9486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838760" y="3570120"/>
                <a:ext cx="3920760" cy="327240"/>
                <a:chOff x="4838760" y="3570120"/>
                <a:chExt cx="3920760" cy="327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897440" y="3570120"/>
                  <a:ext cx="3803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NMR spectrometer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38760" y="3570120"/>
                  <a:ext cx="3920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93240" y="3897360"/>
                <a:ext cx="1108800" cy="327240"/>
                <a:chOff x="993240" y="3897360"/>
                <a:chExt cx="1108800" cy="327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051920" y="3897360"/>
                  <a:ext cx="9907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93240" y="3897360"/>
                  <a:ext cx="11088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102040" y="3897360"/>
                <a:ext cx="1787760" cy="327240"/>
                <a:chOff x="2102040" y="3897360"/>
                <a:chExt cx="1787760" cy="3272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160360" y="3897360"/>
                  <a:ext cx="1670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Major cost item 'Y' ………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102040" y="3897360"/>
                  <a:ext cx="1787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890160" y="3897360"/>
                <a:ext cx="948600" cy="327240"/>
                <a:chOff x="3890160" y="3897360"/>
                <a:chExt cx="948600" cy="3272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948840" y="3897360"/>
                  <a:ext cx="83052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27000.50€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90160" y="3897360"/>
                  <a:ext cx="94860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838760" y="3897360"/>
                <a:ext cx="3920760" cy="327240"/>
                <a:chOff x="4838760" y="3897360"/>
                <a:chExt cx="39207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897440" y="3897360"/>
                  <a:ext cx="3803040" cy="32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Expensive chemicals xyz for experiment abc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838760" y="3897360"/>
                  <a:ext cx="3920760" cy="32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993240" y="4224960"/>
                <a:ext cx="1108800" cy="343440"/>
                <a:chOff x="993240" y="4224960"/>
                <a:chExt cx="1108800" cy="3434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051920" y="4224960"/>
                  <a:ext cx="9907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993240" y="4224960"/>
                  <a:ext cx="110880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102040" y="4224960"/>
                <a:ext cx="1787760" cy="343440"/>
                <a:chOff x="2102040" y="4224960"/>
                <a:chExt cx="1787760" cy="343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160360" y="4224960"/>
                  <a:ext cx="16700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Remaining direct cos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02040" y="4224960"/>
                  <a:ext cx="1787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890160" y="4224960"/>
                <a:ext cx="948600" cy="343440"/>
                <a:chOff x="3890160" y="4224960"/>
                <a:chExt cx="948600" cy="3434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948840" y="4224960"/>
                  <a:ext cx="8305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15000.10€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890160" y="4224960"/>
                  <a:ext cx="94860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838760" y="4224960"/>
                <a:ext cx="3920760" cy="343440"/>
                <a:chOff x="4838760" y="4224960"/>
                <a:chExt cx="3920760" cy="343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97440" y="4224960"/>
                  <a:ext cx="38030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838760" y="4224960"/>
                  <a:ext cx="392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993240" y="4568400"/>
                <a:ext cx="1108800" cy="343440"/>
                <a:chOff x="993240" y="4568400"/>
                <a:chExt cx="1108800" cy="343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051920" y="4568400"/>
                  <a:ext cx="9907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993240" y="4568400"/>
                  <a:ext cx="110880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102040" y="4568400"/>
                <a:ext cx="1787760" cy="343440"/>
                <a:chOff x="2102040" y="4568400"/>
                <a:chExt cx="1787760" cy="3434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60360" y="4568400"/>
                  <a:ext cx="16700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Indirect cos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102040" y="4568400"/>
                  <a:ext cx="1787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90160" y="4568400"/>
                <a:ext cx="948600" cy="343440"/>
                <a:chOff x="3890160" y="4568400"/>
                <a:chExt cx="948600" cy="3434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48840" y="4568400"/>
                  <a:ext cx="8305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90160" y="4568400"/>
                  <a:ext cx="94860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838760" y="4568400"/>
                <a:ext cx="3920760" cy="343440"/>
                <a:chOff x="4838760" y="4568400"/>
                <a:chExt cx="3920760" cy="3434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897440" y="4568400"/>
                  <a:ext cx="38030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838760" y="4568400"/>
                  <a:ext cx="392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993240" y="4912200"/>
                <a:ext cx="2896920" cy="343440"/>
                <a:chOff x="993240" y="4912200"/>
                <a:chExt cx="2896920" cy="3434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051920" y="4912200"/>
                  <a:ext cx="27788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TOTAL COSTS</a:t>
                  </a:r>
                  <a:r>
                    <a:rPr b="1" lang="en-GB" sz="1000" spc="-1" strike="noStrike" u="sng">
                      <a:solidFill>
                        <a:srgbClr val="800080"/>
                      </a:solidFill>
                      <a:uFillTx/>
                      <a:latin typeface="Arial Narrow"/>
                      <a:ea typeface="Times New Roman"/>
                    </a:rPr>
                    <a:t> *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93240" y="4912200"/>
                  <a:ext cx="289692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890160" y="4912200"/>
                <a:ext cx="948600" cy="343440"/>
                <a:chOff x="3890160" y="4912200"/>
                <a:chExt cx="948600" cy="3434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48840" y="4912200"/>
                  <a:ext cx="83052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363000.85€</a:t>
                  </a:r>
                  <a:r>
                    <a:rPr b="0" i="1" lang="en-GB" sz="10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890160" y="4912200"/>
                  <a:ext cx="94860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838760" y="4912200"/>
                <a:ext cx="3920760" cy="343440"/>
                <a:chOff x="4838760" y="4912200"/>
                <a:chExt cx="3920760" cy="343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897440" y="4912200"/>
                  <a:ext cx="3803040" cy="34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38760" y="4912200"/>
                  <a:ext cx="3920760" cy="34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9" name=""/>
            <p:cNvSpPr/>
            <p:nvPr/>
          </p:nvSpPr>
          <p:spPr>
            <a:xfrm>
              <a:off x="990720" y="1981080"/>
              <a:ext cx="7772400" cy="3276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440" y="57816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" y="660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0" y="7201080"/>
            <a:ext cx="914400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0" y="7219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4d4d4d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1]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otal costs have to be coherent with the costs claimed in Form 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486400"/>
            <a:ext cx="5790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otal costs must be coherent with the amount claimed in form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8120" y="137160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cc"/>
                </a:solidFill>
                <a:latin typeface="Arial"/>
              </a:rPr>
              <a:t>Explanation of the use of the 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3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C0D-F60F-498B-BA8E-CD6B0DB8D6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-10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99280" bIns="-899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924520" cy="8886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-1014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3160" y="3333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cc"/>
                </a:solidFill>
                <a:latin typeface="Arial"/>
              </a:rPr>
              <a:t>Form 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3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BC1-50E0-42BE-8461-33148FF60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19520" y="144792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cc"/>
                </a:solidFill>
                <a:latin typeface="Arial"/>
              </a:rPr>
              <a:t>Timeline of reporting and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32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Start date 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01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8160" y="318132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43560" y="4724280"/>
            <a:ext cx="2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31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91440" y="3124080"/>
            <a:ext cx="37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190600"/>
            <a:ext cx="102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Times New Roman"/>
              </a:rPr>
              <a:t>GA into fo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48520" y="338148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3400560"/>
            <a:ext cx="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44080" y="3400560"/>
            <a:ext cx="14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34005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35360" y="3381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33814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4920" y="3486240"/>
            <a:ext cx="730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5360" y="3486240"/>
            <a:ext cx="9223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57680" y="3486240"/>
            <a:ext cx="10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71840" y="34099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6000" y="34290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14880" y="33908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40440" y="33908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71840" y="3495600"/>
            <a:ext cx="7430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14880" y="3495600"/>
            <a:ext cx="936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51600" y="349560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76920" y="3495600"/>
            <a:ext cx="66384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3495600"/>
            <a:ext cx="955800" cy="1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58240" y="3495600"/>
            <a:ext cx="32544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62160" y="359100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6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86120" y="3581280"/>
            <a:ext cx="7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5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34040" y="3581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6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96000" y="3619440"/>
            <a:ext cx="63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6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72120" y="3619440"/>
            <a:ext cx="6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5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81800" y="360036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5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96400" y="362916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</a:rPr>
              <a:t>3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14640" y="2666880"/>
            <a:ext cx="12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iodic repor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86320" y="2666880"/>
            <a:ext cx="12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2514600"/>
            <a:ext cx="1600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iodic  report 3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24200" y="3657600"/>
            <a:ext cx="1800" cy="55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09800" y="2819520"/>
            <a:ext cx="180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5800" y="2895480"/>
            <a:ext cx="180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29520" y="2838600"/>
            <a:ext cx="144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58240" y="3610080"/>
            <a:ext cx="1440" cy="55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0200" y="3657600"/>
            <a:ext cx="1800" cy="55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2440" y="4210200"/>
            <a:ext cx="12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nterim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05320" y="421956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nterim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53160" y="4200480"/>
            <a:ext cx="11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inal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71680" y="3600360"/>
            <a:ext cx="1440" cy="11718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76560" y="3629160"/>
            <a:ext cx="1800" cy="1171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53120" y="480996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3300"/>
                </a:solidFill>
                <a:latin typeface="Arial"/>
              </a:rPr>
              <a:t>End date 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96000" y="198108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inal report on distribution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mmunity financial con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4360" y="2371680"/>
            <a:ext cx="144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2400" y="2371680"/>
            <a:ext cx="180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00080" y="338148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680" y="3390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3390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191120"/>
            <a:ext cx="100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Prefinancing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Arial"/>
              </a:rPr>
              <a:t>15/06/2011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00080" y="3619440"/>
            <a:ext cx="1800" cy="55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2400" y="3505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000080" y="3495240"/>
            <a:ext cx="1303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38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57720" y="26668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iodic repor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ick-off Meeting JERICO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is 24-25/05/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067040" cy="89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6CC-4885-4A68-92E6-5E49A44C1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44:15Z</dcterms:created>
  <dc:creator>cdesb</dc:creator>
  <dc:description/>
  <dc:language>en-US</dc:language>
  <cp:lastModifiedBy>dgueguen</cp:lastModifiedBy>
  <cp:lastPrinted>1999-11-29T15:09:44Z</cp:lastPrinted>
  <dcterms:modified xsi:type="dcterms:W3CDTF">2011-03-25T11:46:26Z</dcterms:modified>
  <cp:revision>18</cp:revision>
  <dc:subject/>
  <dc:title>Présentation PowerPoint</dc:title>
</cp:coreProperties>
</file>