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997272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360" y="4240800"/>
            <a:ext cx="997272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16560" y="104436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6360" y="424080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16560" y="424080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321084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78120" y="1044360"/>
            <a:ext cx="321084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049880" y="1044360"/>
            <a:ext cx="321084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6360" y="4240800"/>
            <a:ext cx="321084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78120" y="4240800"/>
            <a:ext cx="321084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049880" y="4240800"/>
            <a:ext cx="321084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0AA65-D362-483E-A558-AE3EC7F8D4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6360" y="1044360"/>
            <a:ext cx="997272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46D85-C502-4761-A8A3-919C5299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997272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1B7B-0D9A-4F6C-87E7-376804B4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486648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16560" y="1044360"/>
            <a:ext cx="486648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D90F-AA1F-4089-91E5-E05FB5F7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57361-D424-4216-BA19-AEEB0E79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06360" y="108000"/>
            <a:ext cx="770400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EEBC-A21D-41A5-A067-055CF08D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16560" y="1044360"/>
            <a:ext cx="486648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6360" y="424080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1BD92-6432-47B0-91B9-D17F4073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6360" y="1044360"/>
            <a:ext cx="997272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486648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6560" y="104436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16560" y="424080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27787-41FF-464E-B147-7C1AD254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16560" y="104436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6360" y="4240800"/>
            <a:ext cx="997272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9C3E-AB0C-4001-85A5-BB093481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997272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6360" y="4240800"/>
            <a:ext cx="997272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EC83-50EC-42A2-A275-32F04153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16560" y="104436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6360" y="424080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16560" y="424080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1371-0C20-4434-BDFB-DB1F51F2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321084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78120" y="1044360"/>
            <a:ext cx="321084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049880" y="1044360"/>
            <a:ext cx="321084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06360" y="4240800"/>
            <a:ext cx="321084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78120" y="4240800"/>
            <a:ext cx="321084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049880" y="4240800"/>
            <a:ext cx="321084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90DB-C47E-4D3D-940D-8521BDFD00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997272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486648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6560" y="1044360"/>
            <a:ext cx="486648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6360" y="108000"/>
            <a:ext cx="770400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16560" y="1044360"/>
            <a:ext cx="486648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6360" y="424080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486648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6560" y="104436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16560" y="424080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6560" y="1044360"/>
            <a:ext cx="486648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6360" y="4240800"/>
            <a:ext cx="9972720" cy="29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0720" y="0"/>
            <a:ext cx="10242720" cy="2916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95440" y="108000"/>
            <a:ext cx="676728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378000" y="774720"/>
            <a:ext cx="1031544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95440" y="720720"/>
            <a:ext cx="3958920" cy="10800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440" y="-14400"/>
            <a:ext cx="10693080" cy="6300720"/>
            <a:chOff x="-1440" y="-14400"/>
            <a:chExt cx="10693080" cy="630072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-1440" y="2900160"/>
              <a:ext cx="10693080" cy="3386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" name=""/>
            <p:cNvGraphicFramePr/>
            <p:nvPr/>
          </p:nvGraphicFramePr>
          <p:xfrm>
            <a:off x="-1440" y="-14400"/>
            <a:ext cx="450360" cy="630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1440" y="-14400"/>
                      <a:ext cx="450360" cy="630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866000" y="6627960"/>
            <a:ext cx="2376720" cy="6094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spcBef>
                <a:spcPts val="400"/>
              </a:spcBef>
              <a:buClr>
                <a:srgbClr val="000000"/>
              </a:buClr>
              <a:buFont typeface="Wingdings 3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spcBef>
                <a:spcPts val="400"/>
              </a:spcBef>
              <a:buClr>
                <a:srgbClr val="000000"/>
              </a:buClr>
              <a:buFont typeface="Wingdings 3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6360" y="1044360"/>
            <a:ext cx="997272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379440" y="7237440"/>
            <a:ext cx="8136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. Petersen, JERICO Preparatory Meeting Brussels March 2011: WP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2"/>
          </p:nvPr>
        </p:nvSpPr>
        <p:spPr>
          <a:xfrm>
            <a:off x="9523080" y="7062480"/>
            <a:ext cx="75564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83A050B-03AB-4EBE-97C2-A08EE08DDFC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14000" y="828720"/>
            <a:ext cx="9864720" cy="108000"/>
            <a:chOff x="414000" y="828720"/>
            <a:chExt cx="9864720" cy="108000"/>
          </a:xfrm>
        </p:grpSpPr>
        <p:sp>
          <p:nvSpPr>
            <p:cNvPr id="51" name=""/>
            <p:cNvSpPr/>
            <p:nvPr/>
          </p:nvSpPr>
          <p:spPr>
            <a:xfrm flipH="1">
              <a:off x="1782360" y="882720"/>
              <a:ext cx="8496360" cy="0"/>
            </a:xfrm>
            <a:prstGeom prst="line">
              <a:avLst/>
            </a:prstGeom>
            <a:ln w="3240">
              <a:solidFill>
                <a:srgbClr val="00a2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414000" y="882720"/>
              <a:ext cx="755640" cy="0"/>
            </a:xfrm>
            <a:prstGeom prst="line">
              <a:avLst/>
            </a:prstGeom>
            <a:ln w="3240">
              <a:solidFill>
                <a:srgbClr val="0098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43080" y="828720"/>
              <a:ext cx="3959280" cy="108000"/>
            </a:xfrm>
            <a:prstGeom prst="rect">
              <a:avLst/>
            </a:prstGeom>
            <a:solidFill>
              <a:srgbClr val="0098d4"/>
            </a:solidFill>
            <a:ln w="9360">
              <a:solidFill>
                <a:srgbClr val="00a2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 flipH="1">
            <a:off x="450720" y="723744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683560" y="109440"/>
            <a:ext cx="1919520" cy="49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544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ERICO Meeting Brussels March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9280" y="1336680"/>
            <a:ext cx="18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3640" y="1332000"/>
            <a:ext cx="9937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P3: Harmonizing technological aspect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360" y="24130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a2e0"/>
                </a:solidFill>
                <a:latin typeface="Arial"/>
              </a:rPr>
              <a:t>Wilhelm Peter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P 3: Task 3.2 Glider Workingplan first yea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997272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view current status of glider operations in Europe via questionaire, workshop?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ordination with the Gliding Observatories network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0">
              <a:lnSpc>
                <a:spcPct val="120000"/>
              </a:lnSpc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 3.2. report status glider (M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9241-72FF-4FBC-A079-3D1E31AA2C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F84C3-26D1-4DF1-B69E-D2AA3AA394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7640" y="252000"/>
            <a:ext cx="828180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P 3: Task 3.3 Fixed Platform Workingplan first yea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997272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current status of all existing fixed observing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 (merged with the FB questionnaire)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P3 &lt;-&gt; WP2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ing stations outside of consortium subdivided by the different ROOS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lnSpc>
                <a:spcPct val="120000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best prac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P3 &lt;-&gt; WP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lnSpc>
                <a:spcPct val="120000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 3.3. report status fixed platforms (M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0">
              <a:lnSpc>
                <a:spcPct val="120000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A1AE7-2303-421B-BABF-ADF6DA85E5B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D659A-D773-42D6-A915-4C23B62084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6000" y="108000"/>
            <a:ext cx="828036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P 3: Task 3.3.4  New Sensors Workingplan first yea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997272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us of application of new sensor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WP3 &lt;-&gt; WP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essment of their applicability for  FerryBox and fixed s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new sensor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itability for unattende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fouling (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WP3 &lt;-&gt; WP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5ADCC-35E9-4D81-98D4-8B8C704DB2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86313-0EF0-43FC-BEE8-07E25D18C2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P3: Time table for the entire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476360"/>
            <a:ext cx="10585440" cy="36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BC4F-33E7-4726-A87E-A9B7DF0D4A6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936B1-80DE-473E-A501-67E4F602DB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P3: Time table until 20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8360" y="1116000"/>
            <a:ext cx="8959680" cy="553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E3A01-1D3E-45C6-B8A6-C18B5443AA5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74654-03F4-4276-A5C3-F56085F17B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P3: open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997272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lap WP3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 WP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nection WP10 (e.g. defining standards, protocols, QA for new sens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sk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3.1  FerryBox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RC (Bori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3.2  Glider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SIC (Sim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3.3. Fixed Platform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NR (Stefan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3.x.3 test &amp; applictat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new sensor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ZG (Wil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1C87-EB73-4F28-9946-1FA661B9BE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B63E8-0E49-4865-A83D-D6909DC825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P3 Lin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893880"/>
            <a:ext cx="9771120" cy="639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24DC-4B67-4963-97A3-8AC9E3D1B0A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36D55-7D83-4975-B803-AE68E12B6B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P3: Personal month per part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70000" y="971640"/>
            <a:ext cx="8064360" cy="60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31EA6-FB38-4281-B1D7-4E81FFEDF3B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8D85F-CBA5-4749-B8B9-42B158414E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2000" y="108000"/>
            <a:ext cx="83534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P3: Harmonizing technological asp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997272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lnSpc>
                <a:spcPct val="83000"/>
              </a:lnSpc>
              <a:spcAft>
                <a:spcPts val="1199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eneral Objectives: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3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a common base for the operational use of FerryBoxes, gliders, fixed platforms along European co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3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view the current status of existing systems in operational use in European s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3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fine the best technical practices for compatible, robust and cost-effectiv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3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fine procedures for harmonizing and merging quality assessed FerryBox and Fixed Platform data at regional (ROOS)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3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fine procedures and technological solutions for integration and testing of new sensors on thes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3000"/>
              </a:lnSpc>
              <a:spcAft>
                <a:spcPts val="1049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D1BB3-255A-41EE-9976-00B1F2636B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4BD6C-1DB1-49F4-BF17-72F70139F8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2920" y="108000"/>
            <a:ext cx="770436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P 3: Task 3.1 FerryBo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997272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lnSpc>
                <a:spcPct val="11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current status of existing FB systems (e.g. sensors, quality control,data handli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best technical practices of the existing FB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onize the result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technological solutions to integrating new sensors (from WP10) into F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nsensual procedures for using FerryBox data in validation of earth observa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10000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1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.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view current status of existing FB systems (flow-through systems, sensors, quality control, data hand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.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st practice of FB systems (flow-through system, sensors, operation procedures, antifouling, control mechanisms, data hand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.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monization and merging quality assessed data from FB systems in ROOS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1.4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est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of new sensors and best practices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ghtly linked to WP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10000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3DB3B-9645-4902-95C6-BF77AF7227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915FC-70E5-448A-A891-14026B8DD2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P 3: Task 3.2 Gli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997272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the current status of the existing glider fleet in operational use in European s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best technical practices for operation of a fleet of gliders (general strategies for glider operation in coastal and shallow areas, implementation of tools for path planning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current status of glider operations in Europe (in coordination with the Gliding Observatories net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best technical practices for operation a fleet of gl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120000"/>
              </a:lnSpc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3A8C-7C82-4A7F-8530-33DAF8FF091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7F773-95DA-4A5D-8D09-7B021852B1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P 3: Task 3.3 Fixed Platfor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6360" y="1044720"/>
            <a:ext cx="997272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0">
              <a:lnSpc>
                <a:spcPct val="11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ing the current status of existing systems in operational use i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best technical practices for compatible, robust and cost-effective systems on a variety of fixed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procedures for harmonizing and merging quality-assessed high-frequency in situ data across regional seas (e.g. the North S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gaps in the present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ng technological solutions for the integration and testing of new sensors on fixed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data with mobile platforms and remote sensing to create new integrated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9B434-D884-4C70-A840-AC5AF7BCC4D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5A08C-1D79-4BF0-A177-D80B1DE5F6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86407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P 3: Task 3.3. Fixed Platforms (continu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6360" y="1044720"/>
            <a:ext cx="997272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a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the current status of all existing fixed observing sites in European w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racti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fixed platform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Harmonization and merging quality assessed data from fixed platform systems in ROOS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3.3.4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of new sensors and assessment of their applicability for fixed stations (strong relationship to WP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46865-9926-4ECC-962C-9E44C37733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D82A6-6687-4BB3-A994-25047AAF2F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P 3: Deliverables &amp; Milest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6000" y="1044360"/>
            <a:ext cx="1038708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 3.1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on current status of FerryBox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3.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on current status of gliders observato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3.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view of current marine fixed instrum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3.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ort on new sensor develop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3.5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clusion re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est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2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on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7E0BD-1DCC-40B6-977F-C66A0ECB8D4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CCB2D-04DC-458A-A909-3C27719DF9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ributions of partners to WP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73560" y="5364000"/>
            <a:ext cx="43099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160" bIns="4716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partners in total: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17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budget: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~550k€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total personal month: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1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8960" y="2422440"/>
            <a:ext cx="9515520" cy="27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1DB1B-BA87-400C-ABEB-9076598AA3E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CBA51-68AD-4763-966D-B968AF3787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6360" y="108000"/>
            <a:ext cx="770400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P 3: Task 3.1 FerryBox Workingplan first yea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6360" y="1044360"/>
            <a:ext cx="997272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rryBo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current status FerryBox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457200"/>
                <a:tab algn="l" pos="898560"/>
                <a:tab algn="l" pos="1347840"/>
                <a:tab algn="l" pos="17971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stionnaire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P3 &lt;-&gt; W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 3.1. report status FerryBox (M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best practise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tire infrastructural chain of data acquisition from sensor (performance, robustness, accuracy, etc.) to supporting system (cabling, electric and electronic components, critical sub systems such as debubbling, pumping, etc.).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WP3 &lt;-&gt; WP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457200"/>
                <a:tab algn="l" pos="898560"/>
                <a:tab algn="l" pos="1347840"/>
                <a:tab algn="l" pos="17971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(2-3 day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ombination with FB-Meeting in Sept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120000"/>
              </a:lnSpc>
              <a:buNone/>
              <a:tabLst>
                <a:tab algn="l" pos="457200"/>
                <a:tab algn="l" pos="898560"/>
                <a:tab algn="l" pos="1347840"/>
                <a:tab algn="l" pos="17971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A13B-0240-496B-8F83-577AE4A7D15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8C4E6-F612-43E7-AC0D-1DD1346AB9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9:46:45Z</dcterms:created>
  <dc:creator>Patrick Kalb-Rottmann</dc:creator>
  <dc:description>Template: 2010-10-14</dc:description>
  <dc:language>en-US</dc:language>
  <cp:lastModifiedBy>Petersen</cp:lastModifiedBy>
  <dcterms:modified xsi:type="dcterms:W3CDTF">2011-03-29T09:54:06Z</dcterms:modified>
  <cp:revision>33</cp:revision>
  <dc:subject/>
  <dc:title>Anlass</dc:title>
</cp:coreProperties>
</file>