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2FA-E667-40EB-9399-B805201B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B2E-1A09-46C8-B4AB-5DC991E8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683-8EF6-451F-8B66-5C04D596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92D-FA0E-44A8-A85A-C4CFB6B3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D5E-39DD-4EE5-92C6-B776D265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46B-7485-4EC1-857C-376E3B5F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FCE-DD96-46F1-813C-29D38E24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B6C-EB0E-4415-9A92-933C9344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553-79C3-44E4-84D7-B8E65EE1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37B-97C6-4CDB-B880-BE1A480E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4F6-453A-4981-9055-9F1A63B0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72A-0550-458D-B308-99B3EA2D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0E68-AC1F-4C82-A680-C182F5B5D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6176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200"/>
        </p:xfrm>
        <a:graphic>
          <a:graphicData uri="http://schemas.openxmlformats.org/drawingml/2006/table">
            <a:tbl>
              <a:tblPr/>
              <a:tblGrid>
                <a:gridCol w="812880"/>
                <a:gridCol w="4364640"/>
                <a:gridCol w="963000"/>
                <a:gridCol w="2089080"/>
              </a:tblGrid>
              <a:tr h="93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detail the work plan and the agenda of the WP9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plan and age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ill be the output of the WP9 ? Recommendation, strategic plan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WP9 description of 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428920"/>
            <a:ext cx="9144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SK 1: access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3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cess from Jerico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 year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liant with Seadatanet and My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en to us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icatio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unication to b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 Targeted Operation Phase (TOP) are proposed to offer access to data and value-added product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Multi parameters maps on a monthly basis, provided by a set of coastal observatories (moored buoys, floats) – CEFAS, 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Data and demonstrative products on a monthly basis, collected from sensors on board fishing vessels – Ifremer, C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Data from buoys and collocated Ferry Box line, respectively in the south Aegean Sea and in the Kattegat – NIVA, SM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year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229600" cy="4808520"/>
        </p:xfrm>
        <a:graphic>
          <a:graphicData uri="http://schemas.openxmlformats.org/drawingml/2006/table">
            <a:tbl>
              <a:tblPr/>
              <a:tblGrid>
                <a:gridCol w="914400"/>
                <a:gridCol w="4657680"/>
                <a:gridCol w="947880"/>
                <a:gridCol w="170964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CO. Better definition of the task, how  to realize the EMECO extension 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F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discussed in Bruss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regional seas? On what basis (i.e. data accessible via the jerico web (WP7)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s of the TOP? Approach to 2D/3D? Cross calibra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remer - CN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discussed in Bruss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s of the TOP? Approach to 2D/3D? Cross calibratio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A - HCM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discussed in Bruss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E NEED TO BE VERY STRICT ON THE ANALYTICAL COST ACCOUNTING BECAUSE OF THE AUDIT BY THE 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RSONNE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ERATIONN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ARE PAR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URING 1(TOP), 2(DATA), 4 TNA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5276880"/>
                <a:gridCol w="1224720"/>
                <a:gridCol w="1727640"/>
              </a:tblGrid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 a template for all the partners involved in the WP8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in Bruss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arameters characteristics, geolocalization, time scale …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definition of meta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dedicated web ser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wner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rules for the partners: what they have to do for the financ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in Bruss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s (analytical cost accounting), how they have to justify, 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cientific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 1.1 : SET UP THE SCENE AND IMPLEMENTATION PLAN( M1-M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admap for the project (WP by W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of WP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he experience with othe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 1.2: JERICO LABEL (M1-M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ng the JERICO label for coastal observatories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.3: FCT - FORUM FOR COASTAL TECHNOLOGY (M6-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ing a forum to better encourage communication and collaboration between public scientists, managers,  and privat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ting a scientific secretariat aimed at organizing the meetings and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.4: DEFINITION STRATEGY AND INTERFACES WITH THE MONITORING OF MARINEBIODIVERSITY (M12-4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OZ task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lo Heip and Hermann Hum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 1.5: ROADMAP FOR THE FUTURE (M24-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al for the « after Jerico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for the European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built a real Net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1.6: USER MODALITY ACCESS FOR THE TRANS NATION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be discussed in WP8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484360"/>
            <a:ext cx="914400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27680"/>
        </p:xfrm>
        <a:graphic>
          <a:graphicData uri="http://schemas.openxmlformats.org/drawingml/2006/table">
            <a:tbl>
              <a:tblPr/>
              <a:tblGrid>
                <a:gridCol w="938160"/>
                <a:gridCol w="4110120"/>
                <a:gridCol w="1187280"/>
                <a:gridCol w="199404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tas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e Identify the Task and Sub tasks leaders (name and organiz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to be sent to the coordin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a schedule of the main actions of each task/subtas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ing to be discussed in m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able 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on new sensor development must take into account new parameters 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a more detailed descrip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 and new methodologies. We need to take into account what is yet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erms of inter-operability, plug and play. What will be the interface with WP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sho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se workshops with WP4 - consider joint workshops with plenum and dedicated s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G + HCM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to be discussed in M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3 &amp; 3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ill you manage and what are the interfaces with WP2 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G + IM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a more detailed descrip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170080"/>
            <a:ext cx="9144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00240"/>
            <a:ext cx="914400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727360"/>
            <a:ext cx="9144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0:34:29Z</dcterms:created>
  <dc:creator>pfarcy</dc:creator>
  <dc:description/>
  <dc:language>en-US</dc:language>
  <cp:lastModifiedBy>pfarcy</cp:lastModifiedBy>
  <dcterms:modified xsi:type="dcterms:W3CDTF">2011-03-29T11:27:09Z</dcterms:modified>
  <cp:revision>9</cp:revision>
  <dc:subject/>
  <dc:title>Diapositive 1</dc:title>
</cp:coreProperties>
</file>