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B36-9593-4C14-BD66-852E1993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CF8-419E-4E62-AE10-0FE43880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B0C-7A34-488B-BAAE-4EB8CBC1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775F-2A8F-4E51-9482-E4AC916D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1FA-F56E-4009-8987-72333EF1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6A9-FF6A-40D0-8F1C-92A52920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3B9-42C7-4659-80B3-8B1D7FCB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E56-BCEF-4996-B601-AF744BAA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158-CC0C-456D-9D60-4098D51C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F48-6AEE-4CAC-B7DF-8BD0174F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CC0-2167-47C0-B424-F31CB1E4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7DB-8027-4C55-B4E6-5541E65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BA98-082B-4FA2-8511-63196645D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16176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jerico-fp7.eu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jerico@ifremer.fr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 Kick-off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U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8 &amp; 29 march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ICK-OFF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ON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TNERS LINKS, JERICO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AND FINANCIA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P ACTIVITIES (coordination, tasks, workshops, deliverables, milestones, 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TES &amp;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PL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scal Morin – CNRS, WP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nning Wehde – IMR, W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helm Petersen – HZG, W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orges Petihakis – HCMR, WP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essandro Crise – OGS, W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vid Mills – CEFAS, W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rick Farcy (acting) – Ifremer, WP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fania Sparnocchia – CNR, WP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rdjan Dobricic – CMCC, WP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enn Nolan – MI, WP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PL TEAM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co-coordinator for each WP as dep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eting to be organised by the team but not “contractual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l activity reports month 8, 22,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ity report 1, month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ity report 2, month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, month 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PL TEAM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WPL organise its WP and has to have tasks leaders (with deputy if required), work plan, deliverable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for internal management, financial and effort progresses every 3 months (or 6 but no mor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From now to the Kick Off, WPL have to organise the coordination of their W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SORY COMMITT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C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AC will be aware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NA call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RA R &amp; D strategy an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of the final report on the Strategy for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ological forum organisatio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ace between marine research infrastructure and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 to give label to sensor/equi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C (propos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) Dr Annalisa Griffa, Physical Oceanographer, senior scientist at CNR-ISMAR and Research Professor at RSMAS, University of Miami, Flor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) Dr George Zodiatis, Physical Oceanographer, University of Cypr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) Dr. Richard Dewey, Physical Oceanographer, University of Victoria, Canada. He is Associated director of V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)Tim Haigh, Head of Group – GMES, European Environment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) Dr. Yves Morel, Service Hydrographique et Oceanographique de la Marine (SH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) Dr John Volkman, Program Leader, Marine Biogeochemistry, CSIRO Marine and Atmospheric Research, 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) Prof. Franciscus Colijn, retired from GKSS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enn No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annick Aou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nch “pôle Mer”, association of SME’s in marine research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 Franciscus Co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 T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 T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RICO WEB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erico-fp7.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rico website managed by the WP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simple as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k to the data servic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a version available for May the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k with the doc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ON DOC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TP : all documentations stored on a disk with protection and back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ficial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ct management, mailing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ncial documents and tem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P 1 to 10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by Jerico website or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d by Na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rico.partners = official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rico.adm = administrative contacts 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rico.Steeringcommittee = ST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rico.STbackup = ST secretary 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rico.WPleaders = WP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rico.WPcoleaders = WP co-coordinator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Px for the WPx mailing list 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erico@ifremer.f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= managemen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rico.SC = Science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nt Agreement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remer signature done, EC within 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 A send to all partners for signature before mid 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GPF avail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RICO_(262584)_2011-03-16[1]_final G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JERICO_(262584)_2011-02-22[1]_Annex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ortium Agreement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 CA expected mi 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 to data within WP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 11 -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1: day to day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2: financial follow-up (Tuesday 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3: Technical reporting, M18, 36,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4: Quality assurance plan (with HCM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ty set (with N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5: Consortium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6: Other management related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s with Australia and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ociated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SOCIATED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OS,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E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UBITAK,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M,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ZOR,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EO,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in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… EUROSITES/EMSO, PML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95280" y="77760"/>
          <a:ext cx="8229600" cy="6780240"/>
        </p:xfrm>
        <a:graphic>
          <a:graphicData uri="http://schemas.openxmlformats.org/drawingml/2006/table">
            <a:tbl>
              <a:tblPr/>
              <a:tblGrid>
                <a:gridCol w="820800"/>
                <a:gridCol w="819000"/>
                <a:gridCol w="930240"/>
                <a:gridCol w="1038240"/>
                <a:gridCol w="820800"/>
                <a:gridCol w="820800"/>
                <a:gridCol w="1120680"/>
                <a:gridCol w="820800"/>
                <a:gridCol w="1038240"/>
              </a:tblGrid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nt number in this projec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nt short nam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eligible costs (whole duration of the project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ceipt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ed EC contributio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REMER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568,08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 799,12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 293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2 995,75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44 655,95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48 135,59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K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 778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 831,4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976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 585,4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 362,61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WP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60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879,98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479,98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 976,98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251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85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 836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 523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 777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 037,12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447,4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348,64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8 610,16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 850,53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 927,6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395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 322,6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 923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TA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602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689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 291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 436,62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G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038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9 919,1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263,2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 220,3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 800,78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 335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3 812,49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 360,69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0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3 908,18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 874,69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 142,4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 142,4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957,73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M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 39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 692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 220,26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726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 028,26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 262,76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9 232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 227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 069,45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0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4 328,45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 805,06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664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664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525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 979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9 160,3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627,6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0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 166,9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 221,3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 00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904,4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 904,4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 790,13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F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771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 511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 282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 608,25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H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82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 775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582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 177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 122,95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80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 781,16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182,3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 763,46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 476,33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O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635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635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055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20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 55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743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 493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 691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 828,4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655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 483,4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 201,99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A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118,74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118,74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 134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/CN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 081,6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 12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533,6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0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4 135,2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3 750,05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665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665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552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-B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09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09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805,25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 512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608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 12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175,4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C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 92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60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982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383 542,68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655 257,23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10 836,48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2 070,39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931 706,78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500 000,0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o manage the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t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P by WP (0 to 6, 9 to 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ne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costs (tra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con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rec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costs (WP7 &amp;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D (discussion within WP7/8 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rick FARCY, coordinator, WP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minique GUEGUEN, finance and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dine Rossignol, assistance to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 assistance to finance and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 little help from Ingrid Puil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ORDINATION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ientific coordination within WP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scal Morin, CN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minique Durand, N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grid Puillat, Ifre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PLs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 SHROEDER – HZ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 KAITALA – SY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 KELLY GERREYN – NERC (T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 MILLS – CEF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 DURAND – N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 NOLAN -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GREMARE – CN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 SPARNOCCHIA – C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 NITTIS – HCM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 TINTORE – C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 FARCY – IFRE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posal to S.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IN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ETING EVERY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d with a workshop if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fore General Assemb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dget or contract changes : 75% min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items : 50% min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ASSEMB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ICK-OFF MEETING : Paris, May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s and EC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 1 : Greece (HCMR), october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s, associated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d term review : Brussels, april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, WPL team, EC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 2 : Norway, april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s, associated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GA : France, april 2015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3:50:40Z</dcterms:created>
  <dc:creator>pfarcy</dc:creator>
  <dc:description/>
  <dc:language>en-US</dc:language>
  <cp:lastModifiedBy>pfarcy</cp:lastModifiedBy>
  <dcterms:modified xsi:type="dcterms:W3CDTF">2011-03-28T08:13:33Z</dcterms:modified>
  <cp:revision>9</cp:revision>
  <dc:subject/>
  <dc:title>JERICO</dc:title>
</cp:coreProperties>
</file>